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png" ContentType="image/png"/>
  <Override PartName="/ppt/media/image6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7A2-8220-4CD7-ABD3-CAF652B9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403-2F17-439E-A463-2F297158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1DE-1A8F-41D3-B789-93DCF113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50D-211A-4A5B-9635-6837D1F4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CAD-09D6-4EE3-B79E-8C3567A3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3F7-0F60-4CC4-8B91-AF322C0C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C69-B42D-4DD4-8600-116CDF81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6C2-4B5B-4D18-9B15-4D1F2973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0B1-5AD1-441C-83E6-C0C4615A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F64-A791-41C6-8EA9-3E37E32E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D6D-491B-4B71-99CB-2125EA8C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31A-821C-48EC-87AB-9FC5BD85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0C17-642E-4A30-9214-41CB951B9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vedicsciences.net/design/bacteria5.jpg"/>
          <p:cNvPicPr/>
          <p:nvPr/>
        </p:nvPicPr>
        <p:blipFill>
          <a:blip r:embed="rId1"/>
          <a:stretch/>
        </p:blipFill>
        <p:spPr>
          <a:xfrm>
            <a:off x="2819520" y="2057400"/>
            <a:ext cx="2971800" cy="2451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otists.jpg"/>
          <p:cNvPicPr/>
          <p:nvPr/>
        </p:nvPicPr>
        <p:blipFill>
          <a:blip r:embed="rId2"/>
          <a:stretch/>
        </p:blipFill>
        <p:spPr>
          <a:xfrm>
            <a:off x="0" y="0"/>
            <a:ext cx="4267080" cy="216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www1.istockphoto.com/file_thumbview_approve/3666613/2/istockphoto_3666613_tropical_plants.jpg"/>
          <p:cNvPicPr/>
          <p:nvPr/>
        </p:nvPicPr>
        <p:blipFill>
          <a:blip r:embed="rId3"/>
          <a:stretch/>
        </p:blipFill>
        <p:spPr>
          <a:xfrm>
            <a:off x="1828800" y="4533840"/>
            <a:ext cx="4305240" cy="2324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www.hawaiianmagic.net/images/plantsampler.jpeg"/>
          <p:cNvPicPr/>
          <p:nvPr/>
        </p:nvPicPr>
        <p:blipFill>
          <a:blip r:embed="rId4"/>
          <a:stretch/>
        </p:blipFill>
        <p:spPr>
          <a:xfrm>
            <a:off x="0" y="1981080"/>
            <a:ext cx="2857680" cy="487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20355600">
            <a:off x="79200" y="2764800"/>
            <a:ext cx="556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urlz MT"/>
              </a:rPr>
              <a:t>WE ARE ALL MUTA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invertebrates.gif"/>
          <p:cNvPicPr/>
          <p:nvPr/>
        </p:nvPicPr>
        <p:blipFill>
          <a:blip r:embed="rId5"/>
          <a:stretch/>
        </p:blipFill>
        <p:spPr>
          <a:xfrm>
            <a:off x="5791320" y="41148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://www.edsci-affiliates.com/images/vertebrates_divider.jpg"/>
          <p:cNvPicPr/>
          <p:nvPr/>
        </p:nvPicPr>
        <p:blipFill>
          <a:blip r:embed="rId6"/>
          <a:stretch/>
        </p:blipFill>
        <p:spPr>
          <a:xfrm>
            <a:off x="5438880" y="1066680"/>
            <a:ext cx="370512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upload.wikimedia.org/wikipedia/commons/thumb/a/a1/Edible_Fungi.jpg/790px-Edible_Fungi.jpg"/>
          <p:cNvPicPr/>
          <p:nvPr/>
        </p:nvPicPr>
        <p:blipFill>
          <a:blip r:embed="rId7"/>
          <a:stretch/>
        </p:blipFill>
        <p:spPr>
          <a:xfrm>
            <a:off x="4114800" y="0"/>
            <a:ext cx="5029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/Wh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4.6  billion years ago – Earth 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3.5  billion years ago – first life appeared on Earth – simple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kary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.0  billion years ago – first eukaryotes app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45 million years ago – sponges, jellyfish, and algae appeared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llowed by worms, primitive arthropods,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ishes,  amphibians, reptiles, and fer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48 million years ago – mammals appeared on the Earth as well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 dinosa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44 million years ago – radiation of mammals and the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pearance of flowering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00,000 years ago – humans first e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evolutionofman"/>
          <p:cNvPicPr/>
          <p:nvPr/>
        </p:nvPicPr>
        <p:blipFill>
          <a:blip r:embed="rId1"/>
          <a:stretch/>
        </p:blipFill>
        <p:spPr>
          <a:xfrm>
            <a:off x="304920" y="609480"/>
            <a:ext cx="8305560" cy="5181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685800" y="5943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bs.org/wgbh/evolution/educators/teachstuds/svide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steve.gb.com/images/science/hominid_cladogram.png"/>
          <p:cNvPicPr/>
          <p:nvPr/>
        </p:nvPicPr>
        <p:blipFill>
          <a:blip r:embed="rId1"/>
          <a:stretch/>
        </p:blipFill>
        <p:spPr>
          <a:xfrm>
            <a:off x="609480" y="398520"/>
            <a:ext cx="762012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604a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4a7b"/>
                </a:solidFill>
                <a:latin typeface="Calibri"/>
              </a:rPr>
              <a:t>FOSSIL REC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mains of ancient life appeared at characteristic depths of rock, indicating when certain species had li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604a7b"/>
                </a:solidFill>
                <a:latin typeface="Calibri"/>
              </a:rPr>
              <a:t>. GEOGRAPHIC DISTRIBUTION OF LIVING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ll organisms could physically be related to each other, but the same selection could happen in different area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Australian &amp; South American could not be directly related, but both had animals adapted for that clim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MOLOGOUS BODY STRUC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structure but different in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 of a common ances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bio.miami.edu/dana/pix/homologous.jpg"/>
          <p:cNvPicPr/>
          <p:nvPr/>
        </p:nvPicPr>
        <p:blipFill>
          <a:blip r:embed="rId1"/>
          <a:stretch/>
        </p:blipFill>
        <p:spPr>
          <a:xfrm>
            <a:off x="1295280" y="3124080"/>
            <a:ext cx="6324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IMILARITIES IN EARL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aeckel_drawings.jpg"/>
          <p:cNvPicPr/>
          <p:nvPr/>
        </p:nvPicPr>
        <p:blipFill>
          <a:blip r:embed="rId1"/>
          <a:stretch/>
        </p:blipFill>
        <p:spPr>
          <a:xfrm>
            <a:off x="609480" y="2286000"/>
            <a:ext cx="8001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8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5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4228560" y="232560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2"/>
          <p:cNvSpPr/>
          <p:nvPr/>
        </p:nvSpPr>
        <p:spPr>
          <a:xfrm>
            <a:off x="3772080" y="136224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9832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75760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491652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707544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39860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355752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571644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787572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139860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9"/>
          <p:cNvSpPr/>
          <p:nvPr/>
        </p:nvSpPr>
        <p:spPr>
          <a:xfrm>
            <a:off x="59832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355752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1"/>
          <p:cNvSpPr/>
          <p:nvPr/>
        </p:nvSpPr>
        <p:spPr>
          <a:xfrm>
            <a:off x="275760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571644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491652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87572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5"/>
          <p:cNvSpPr/>
          <p:nvPr/>
        </p:nvSpPr>
        <p:spPr>
          <a:xfrm>
            <a:off x="707544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1413000" y="2843280"/>
            <a:ext cx="647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4599000" y="25923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4599000" y="21225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1"/>
          <p:cNvSpPr/>
          <p:nvPr/>
        </p:nvSpPr>
        <p:spPr>
          <a:xfrm>
            <a:off x="3808440" y="1359000"/>
            <a:ext cx="1600200" cy="7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8"/>
          <p:cNvGrpSpPr/>
          <p:nvPr/>
        </p:nvGrpSpPr>
        <p:grpSpPr>
          <a:xfrm>
            <a:off x="631800" y="4713120"/>
            <a:ext cx="8077320" cy="776160"/>
            <a:chOff x="631800" y="4713120"/>
            <a:chExt cx="8077320" cy="776160"/>
          </a:xfrm>
        </p:grpSpPr>
        <p:sp>
          <p:nvSpPr>
            <p:cNvPr id="118" name="Oval 33"/>
            <p:cNvSpPr/>
            <p:nvPr/>
          </p:nvSpPr>
          <p:spPr>
            <a:xfrm>
              <a:off x="63180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hysical remains of organis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279072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mmon ancestral spe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495000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imilar g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710892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imilar g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Line 9"/>
          <p:cNvSpPr/>
          <p:nvPr/>
        </p:nvSpPr>
        <p:spPr>
          <a:xfrm>
            <a:off x="139860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355752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571644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787572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56640" y="418788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mposed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024360" y="41878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d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239080" y="41878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398000" y="41878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9"/>
          <p:cNvGrpSpPr/>
          <p:nvPr/>
        </p:nvGrpSpPr>
        <p:grpSpPr>
          <a:xfrm>
            <a:off x="631800" y="3208320"/>
            <a:ext cx="8077320" cy="776160"/>
            <a:chOff x="631800" y="3208320"/>
            <a:chExt cx="8077320" cy="776160"/>
          </a:xfrm>
        </p:grpSpPr>
        <p:sp>
          <p:nvSpPr>
            <p:cNvPr id="131" name="Oval 37"/>
            <p:cNvSpPr/>
            <p:nvPr/>
          </p:nvSpPr>
          <p:spPr>
            <a:xfrm>
              <a:off x="63180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he fossil rec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8"/>
            <p:cNvSpPr/>
            <p:nvPr/>
          </p:nvSpPr>
          <p:spPr>
            <a:xfrm>
              <a:off x="279072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ographic distribution of living spe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9"/>
            <p:cNvSpPr/>
            <p:nvPr/>
          </p:nvSpPr>
          <p:spPr>
            <a:xfrm>
              <a:off x="495000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omologous body struct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0"/>
            <p:cNvSpPr/>
            <p:nvPr/>
          </p:nvSpPr>
          <p:spPr>
            <a:xfrm>
              <a:off x="710892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imilaritie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n early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evolution happ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volution of Po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Variation, and thus Evolution, come from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MUTAT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y change in the genetic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(whole chromosome) or small (single b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, bad, or neut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bhspe-041005_0318_b"/>
          <p:cNvPicPr/>
          <p:nvPr/>
        </p:nvPicPr>
        <p:blipFill>
          <a:blip r:embed="rId1"/>
          <a:stretch/>
        </p:blipFill>
        <p:spPr>
          <a:xfrm>
            <a:off x="914400" y="3886200"/>
            <a:ext cx="7543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Variation, and thus Evolution, come from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ENE SHUFF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meiosis, you can receive any combination of chromosomes from your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23 chromosomes from each, that = 8.4 million different combinations of gen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on’t forget about crossing over!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where along the line, you can get the best of the best tra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’s the closer rela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starfish_purple.jpg"/>
          <p:cNvPicPr/>
          <p:nvPr/>
        </p:nvPicPr>
        <p:blipFill>
          <a:blip r:embed="rId1"/>
          <a:stretch/>
        </p:blipFill>
        <p:spPr>
          <a:xfrm>
            <a:off x="3200400" y="1600200"/>
            <a:ext cx="2590920" cy="208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kelp.jpg"/>
          <p:cNvPicPr/>
          <p:nvPr/>
        </p:nvPicPr>
        <p:blipFill>
          <a:blip r:embed="rId2"/>
          <a:stretch/>
        </p:blipFill>
        <p:spPr>
          <a:xfrm>
            <a:off x="76212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townattorneygeneral.com/CarlPerson019.jpg"/>
          <p:cNvPicPr/>
          <p:nvPr/>
        </p:nvPicPr>
        <p:blipFill>
          <a:blip r:embed="rId3"/>
          <a:stretch/>
        </p:blipFill>
        <p:spPr>
          <a:xfrm>
            <a:off x="6286680" y="3429000"/>
            <a:ext cx="2286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 &amp; 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herit tra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POPULATION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to be familiar with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 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e Frequ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bio_ch16_4336"/>
          <p:cNvPicPr/>
          <p:nvPr/>
        </p:nvPicPr>
        <p:blipFill>
          <a:blip r:embed="rId1"/>
          <a:stretch/>
        </p:blipFill>
        <p:spPr>
          <a:xfrm>
            <a:off x="665280" y="2286000"/>
            <a:ext cx="7813440" cy="3203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63480" y="1987560"/>
            <a:ext cx="31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mple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614600" y="2678040"/>
            <a:ext cx="13255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8% heterozygous bl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81120" y="4170240"/>
            <a:ext cx="1243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6% homozygous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543040" y="3668760"/>
            <a:ext cx="1279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% homozygous bl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205240" y="19875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equency of All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668920" y="2409840"/>
            <a:ext cx="10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ele for brown f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7367760" y="240984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ele for black f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e poo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all the genes, including all the different alleles, present in a popul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ve frequ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# of 1 allele occurs compared to # times other alleles for the same gene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7" descr="_x0007_329.gif 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dy-Weinberg Princi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457200" y="379440"/>
            <a:ext cx="8199000" cy="6172920"/>
            <a:chOff x="457200" y="379440"/>
            <a:chExt cx="8199000" cy="6172920"/>
          </a:xfrm>
        </p:grpSpPr>
        <p:pic>
          <p:nvPicPr>
            <p:cNvPr id="158" name="Picture 8" descr="bhspe-041104_0340"/>
            <p:cNvPicPr/>
            <p:nvPr/>
          </p:nvPicPr>
          <p:blipFill>
            <a:blip r:embed="rId1"/>
            <a:stretch/>
          </p:blipFill>
          <p:spPr>
            <a:xfrm>
              <a:off x="457200" y="2056680"/>
              <a:ext cx="30787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0"/>
            <p:cNvSpPr/>
            <p:nvPr/>
          </p:nvSpPr>
          <p:spPr>
            <a:xfrm>
              <a:off x="4953240" y="379440"/>
              <a:ext cx="37029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p is the frequency of the dominant allele and q is the frequency of the recessive allele.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6" descr="bhspe-041104_0341_a"/>
          <p:cNvPicPr/>
          <p:nvPr/>
        </p:nvPicPr>
        <p:blipFill>
          <a:blip r:embed="rId2"/>
          <a:stretch/>
        </p:blipFill>
        <p:spPr>
          <a:xfrm>
            <a:off x="3581280" y="2362320"/>
            <a:ext cx="52578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+ 2pq + q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1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p + q = 1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 = frequency of the dominant allele in the populati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 = frequency of the recessive allele in the populati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= percentage of homozygous dominant individual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= percentage of homozygous recessive individual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pq = percentage of heterozygous individual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y-Weinbe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es to study a population at a point in tim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it is </a:t>
            </a: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NOT evolv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genetic equilib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for this to be true, there must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andom m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ry large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 movement into or out of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 m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 natural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 therefore IS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andom m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ery large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ovement into or out of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natural s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NETIC EQUILIB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strong m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dri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ration &amp; gene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alle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t alleles and beneficial alle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ce and </a:t>
            </a:r>
            <a:r>
              <a:rPr b="0" lang="en-US" sz="4400" spc="-1" strike="noStrike">
                <a:solidFill>
                  <a:srgbClr val="cc00cc"/>
                </a:solidFill>
                <a:latin typeface="Century Gothic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GENETIC DR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mall populations, individuals carrying a particular gene may leave more descendants simply by ch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Random change in allele 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genetic dr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r effec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new allele migrates to a new location and changes the local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33520" y="57913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asszone.com/cz/books/bio_07/get_chapter_group.htm?cin=4&amp;rg=animated_biology&amp;at=animated_biology&amp;var=animated_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26" descr="bio_ch16_6130"/>
          <p:cNvPicPr/>
          <p:nvPr/>
        </p:nvPicPr>
        <p:blipFill>
          <a:blip r:embed="rId1"/>
          <a:stretch/>
        </p:blipFill>
        <p:spPr>
          <a:xfrm>
            <a:off x="765000" y="2222640"/>
            <a:ext cx="7614000" cy="3314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27"/>
          <p:cNvSpPr/>
          <p:nvPr/>
        </p:nvSpPr>
        <p:spPr>
          <a:xfrm>
            <a:off x="789120" y="1666800"/>
            <a:ext cx="294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mpl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riginal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28"/>
          <p:cNvSpPr/>
          <p:nvPr/>
        </p:nvSpPr>
        <p:spPr>
          <a:xfrm>
            <a:off x="3760920" y="2104920"/>
            <a:ext cx="22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nding Populat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3760920" y="3857760"/>
            <a:ext cx="22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nding Population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30"/>
          <p:cNvSpPr/>
          <p:nvPr/>
        </p:nvSpPr>
        <p:spPr>
          <a:xfrm>
            <a:off x="6010200" y="1879560"/>
            <a:ext cx="23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cend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 Dr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03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 flow moves alleles from one population to anoth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7" descr="_x0019_0342_bhspe-041104.p1C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843440" y="1676520"/>
            <a:ext cx="4300560" cy="5181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533520" y="1981080"/>
            <a:ext cx="3962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ingdoms and Doma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Domain Syste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ased on rRNA evide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 Kingdom Syste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ased on rRNA evide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 Five Kingdom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762120" y="2362320"/>
            <a:ext cx="10666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179800" y="2362320"/>
            <a:ext cx="942840" cy="3682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a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954600" y="2362320"/>
            <a:ext cx="376812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karya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801720" y="3809880"/>
            <a:ext cx="9428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133720" y="3809880"/>
            <a:ext cx="1143000" cy="3682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a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839840" y="3809880"/>
            <a:ext cx="880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610080" y="3809880"/>
            <a:ext cx="901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978160" y="3809880"/>
            <a:ext cx="6865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044840" y="3809880"/>
            <a:ext cx="9914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921600" y="5257800"/>
            <a:ext cx="216360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era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3610080" y="5181480"/>
            <a:ext cx="901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839840" y="5181480"/>
            <a:ext cx="880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6054480" y="5181480"/>
            <a:ext cx="6865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7010280" y="5181480"/>
            <a:ext cx="10638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889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olution through natural selection is not rando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_x0018_0347_bhspe-041106.p1.gif 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4267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ural selection can have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dire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ffects of natural selection add up over 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ing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tudying population genetics, scientists graph the change in phenotype by frequenc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ime, the graph can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polygenic trait.png"/>
          <p:cNvPicPr/>
          <p:nvPr/>
        </p:nvPicPr>
        <p:blipFill>
          <a:blip r:embed="rId1"/>
          <a:stretch/>
        </p:blipFill>
        <p:spPr>
          <a:xfrm>
            <a:off x="533520" y="3200400"/>
            <a:ext cx="7924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bio_ch16_4340"/>
          <p:cNvPicPr/>
          <p:nvPr/>
        </p:nvPicPr>
        <p:blipFill>
          <a:blip r:embed="rId1"/>
          <a:stretch/>
        </p:blipFill>
        <p:spPr>
          <a:xfrm>
            <a:off x="284040" y="1447920"/>
            <a:ext cx="8574120" cy="480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651040" y="1871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rectional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692360" y="25416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od becomes sca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959520" y="15620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413480" y="188928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 mortality, high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7413480" y="240840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mortality, low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31480"/>
            <a:ext cx="86738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rectional Selection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dividuals at one end of the curve have a higher fitness than individuals in the middle or at the other en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bio_ch16_6206"/>
          <p:cNvPicPr/>
          <p:nvPr/>
        </p:nvPicPr>
        <p:blipFill>
          <a:blip r:embed="rId1"/>
          <a:stretch/>
        </p:blipFill>
        <p:spPr>
          <a:xfrm>
            <a:off x="2374920" y="1282680"/>
            <a:ext cx="4406760" cy="51944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2374920" y="189216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 rot="16238400">
            <a:off x="1384560" y="411372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age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695680" y="5518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rth 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118120" y="2649600"/>
            <a:ext cx="167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ection against both extremes keep curve narrow and in same pl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31480"/>
            <a:ext cx="861696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bilizing Selection: average is b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3267000" y="213048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 mortality, high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267000" y="264960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mortality, low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2370240" y="1268280"/>
            <a:ext cx="4432320" cy="50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569760" y="13669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bilizing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bio_ch16_6207"/>
          <p:cNvPicPr/>
          <p:nvPr/>
        </p:nvPicPr>
        <p:blipFill>
          <a:blip r:embed="rId1"/>
          <a:stretch/>
        </p:blipFill>
        <p:spPr>
          <a:xfrm>
            <a:off x="216000" y="1998720"/>
            <a:ext cx="8712000" cy="28591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2629080" y="2143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sruptiv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124080" y="2666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rgest and smallest seeds become more comm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 rot="16200000">
            <a:off x="1810080" y="3579120"/>
            <a:ext cx="166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umber of Bird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2843280" y="453564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ak S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4518000" y="3338640"/>
            <a:ext cx="16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pulation splits into two subgroups specializing in different see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6710400" y="453564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ak S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31840"/>
            <a:ext cx="827748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ruptive Selec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is not good.  The extremes are favored.  Eventually may lead to 2 distinct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8"/>
          <p:cNvSpPr/>
          <p:nvPr/>
        </p:nvSpPr>
        <p:spPr>
          <a:xfrm rot="16200000">
            <a:off x="5688360" y="3579120"/>
            <a:ext cx="166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umber of Bird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600120" y="3098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965160" y="3349800"/>
            <a:ext cx="1417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Low mortality, high fit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965160" y="3792600"/>
            <a:ext cx="1417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igh mortality, low fit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affecting selec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_x0019_0342_bhspe-041104.p1F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tural selection selects for traits advantageous for surviv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0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304920" y="16765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xual selection selects for traits that improve mating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7" descr="_x0019_0342_bhspe-041104.p1E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191120" y="1523880"/>
            <a:ext cx="4647960" cy="5162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609480" y="1523880"/>
            <a:ext cx="327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ions produce the genetic variation needed for ev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7" descr="_x0019_0342_bhspe-041104.p1D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473720" y="1447920"/>
            <a:ext cx="4213080" cy="5257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609480" y="160020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bs.org/wgbh/evolution/educators/teachstuds/svideos.htm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min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Content Placeholder 3" descr="MDRTB.jpg"/>
          <p:cNvPicPr/>
          <p:nvPr/>
        </p:nvPicPr>
        <p:blipFill>
          <a:blip r:embed="rId1"/>
          <a:stretch/>
        </p:blipFill>
        <p:spPr>
          <a:xfrm>
            <a:off x="304920" y="1066680"/>
            <a:ext cx="3504960" cy="3124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drug resistance.jpg"/>
          <p:cNvPicPr/>
          <p:nvPr/>
        </p:nvPicPr>
        <p:blipFill>
          <a:blip r:embed="rId2"/>
          <a:stretch/>
        </p:blipFill>
        <p:spPr>
          <a:xfrm>
            <a:off x="3886200" y="1066680"/>
            <a:ext cx="4876920" cy="5486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image.guim.co.uk/sys-images/Guardian/Pix/pictures/2008/03/20/tb276.jpg"/>
          <p:cNvPicPr/>
          <p:nvPr/>
        </p:nvPicPr>
        <p:blipFill>
          <a:blip r:embed="rId3"/>
          <a:stretch/>
        </p:blipFill>
        <p:spPr>
          <a:xfrm>
            <a:off x="228600" y="40384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ttp://darwin.nmsu.edu/~molb470/fall2005/projects/pan/"/>
          <p:cNvPicPr/>
          <p:nvPr/>
        </p:nvPicPr>
        <p:blipFill>
          <a:blip r:embed="rId1"/>
          <a:stretch/>
        </p:blipFill>
        <p:spPr>
          <a:xfrm>
            <a:off x="417600" y="838080"/>
            <a:ext cx="8269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157"/>
          <p:cNvSpPr/>
          <p:nvPr/>
        </p:nvSpPr>
        <p:spPr>
          <a:xfrm>
            <a:off x="2293920" y="4124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8"/>
          <p:cNvSpPr/>
          <p:nvPr/>
        </p:nvSpPr>
        <p:spPr>
          <a:xfrm>
            <a:off x="6850080" y="4124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9"/>
          <p:cNvSpPr/>
          <p:nvPr/>
        </p:nvSpPr>
        <p:spPr>
          <a:xfrm>
            <a:off x="2293920" y="32194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50"/>
          <p:cNvSpPr/>
          <p:nvPr/>
        </p:nvSpPr>
        <p:spPr>
          <a:xfrm>
            <a:off x="6850080" y="32194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1"/>
          <p:cNvSpPr/>
          <p:nvPr/>
        </p:nvSpPr>
        <p:spPr>
          <a:xfrm>
            <a:off x="4572000" y="3203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9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19"/>
          <p:cNvSpPr/>
          <p:nvPr/>
        </p:nvSpPr>
        <p:spPr>
          <a:xfrm>
            <a:off x="4572000" y="23288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20"/>
          <p:cNvSpPr/>
          <p:nvPr/>
        </p:nvSpPr>
        <p:spPr>
          <a:xfrm>
            <a:off x="4572000" y="14176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21"/>
          <p:cNvSpPr/>
          <p:nvPr/>
        </p:nvSpPr>
        <p:spPr>
          <a:xfrm>
            <a:off x="3384720" y="988920"/>
            <a:ext cx="2374560" cy="447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2"/>
          <p:cNvSpPr/>
          <p:nvPr/>
        </p:nvSpPr>
        <p:spPr>
          <a:xfrm>
            <a:off x="2293920" y="2631960"/>
            <a:ext cx="45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24"/>
          <p:cNvSpPr/>
          <p:nvPr/>
        </p:nvSpPr>
        <p:spPr>
          <a:xfrm>
            <a:off x="1393920" y="28432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8"/>
          <p:cNvSpPr/>
          <p:nvPr/>
        </p:nvSpPr>
        <p:spPr>
          <a:xfrm>
            <a:off x="2293920" y="2631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9"/>
          <p:cNvSpPr/>
          <p:nvPr/>
        </p:nvSpPr>
        <p:spPr>
          <a:xfrm>
            <a:off x="6850080" y="2631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30"/>
          <p:cNvSpPr/>
          <p:nvPr/>
        </p:nvSpPr>
        <p:spPr>
          <a:xfrm>
            <a:off x="5923080" y="28432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1"/>
          <p:cNvSpPr/>
          <p:nvPr/>
        </p:nvSpPr>
        <p:spPr>
          <a:xfrm>
            <a:off x="4106160" y="1509840"/>
            <a:ext cx="933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2"/>
          <p:cNvSpPr/>
          <p:nvPr/>
        </p:nvSpPr>
        <p:spPr>
          <a:xfrm>
            <a:off x="3657600" y="1925640"/>
            <a:ext cx="1828800" cy="45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3"/>
          <p:cNvSpPr/>
          <p:nvPr/>
        </p:nvSpPr>
        <p:spPr>
          <a:xfrm>
            <a:off x="4572000" y="17384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4"/>
          <p:cNvSpPr/>
          <p:nvPr/>
        </p:nvSpPr>
        <p:spPr>
          <a:xfrm>
            <a:off x="4053960" y="2421000"/>
            <a:ext cx="1037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5"/>
          <p:cNvSpPr/>
          <p:nvPr/>
        </p:nvSpPr>
        <p:spPr>
          <a:xfrm>
            <a:off x="4572000" y="2631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36"/>
          <p:cNvSpPr/>
          <p:nvPr/>
        </p:nvSpPr>
        <p:spPr>
          <a:xfrm>
            <a:off x="3657600" y="282744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41"/>
          <p:cNvSpPr/>
          <p:nvPr/>
        </p:nvSpPr>
        <p:spPr>
          <a:xfrm>
            <a:off x="1393920" y="37576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2"/>
          <p:cNvSpPr/>
          <p:nvPr/>
        </p:nvSpPr>
        <p:spPr>
          <a:xfrm>
            <a:off x="2293920" y="35622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4"/>
          <p:cNvSpPr/>
          <p:nvPr/>
        </p:nvSpPr>
        <p:spPr>
          <a:xfrm>
            <a:off x="6850080" y="35622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45"/>
          <p:cNvSpPr/>
          <p:nvPr/>
        </p:nvSpPr>
        <p:spPr>
          <a:xfrm>
            <a:off x="5923080" y="37576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7"/>
          <p:cNvSpPr/>
          <p:nvPr/>
        </p:nvSpPr>
        <p:spPr>
          <a:xfrm>
            <a:off x="4572000" y="35463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8"/>
          <p:cNvSpPr/>
          <p:nvPr/>
        </p:nvSpPr>
        <p:spPr>
          <a:xfrm>
            <a:off x="3657600" y="374184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2"/>
          <p:cNvSpPr/>
          <p:nvPr/>
        </p:nvSpPr>
        <p:spPr>
          <a:xfrm>
            <a:off x="1825200" y="3354120"/>
            <a:ext cx="962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3"/>
          <p:cNvSpPr/>
          <p:nvPr/>
        </p:nvSpPr>
        <p:spPr>
          <a:xfrm>
            <a:off x="6354360" y="3354120"/>
            <a:ext cx="962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54"/>
          <p:cNvSpPr/>
          <p:nvPr/>
        </p:nvSpPr>
        <p:spPr>
          <a:xfrm>
            <a:off x="4090680" y="3338280"/>
            <a:ext cx="962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5"/>
          <p:cNvSpPr/>
          <p:nvPr/>
        </p:nvSpPr>
        <p:spPr>
          <a:xfrm>
            <a:off x="4572000" y="4192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6"/>
          <p:cNvSpPr/>
          <p:nvPr/>
        </p:nvSpPr>
        <p:spPr>
          <a:xfrm>
            <a:off x="2293920" y="4311720"/>
            <a:ext cx="45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9"/>
          <p:cNvSpPr/>
          <p:nvPr/>
        </p:nvSpPr>
        <p:spPr>
          <a:xfrm>
            <a:off x="4026600" y="4373640"/>
            <a:ext cx="109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resul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0"/>
          <p:cNvSpPr/>
          <p:nvPr/>
        </p:nvSpPr>
        <p:spPr>
          <a:xfrm>
            <a:off x="4572000" y="45846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1"/>
          <p:cNvSpPr/>
          <p:nvPr/>
        </p:nvSpPr>
        <p:spPr>
          <a:xfrm>
            <a:off x="4572000" y="51832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62"/>
          <p:cNvSpPr/>
          <p:nvPr/>
        </p:nvSpPr>
        <p:spPr>
          <a:xfrm>
            <a:off x="3657600" y="48070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3"/>
          <p:cNvSpPr/>
          <p:nvPr/>
        </p:nvSpPr>
        <p:spPr>
          <a:xfrm>
            <a:off x="4572000" y="5540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64"/>
          <p:cNvSpPr/>
          <p:nvPr/>
        </p:nvSpPr>
        <p:spPr>
          <a:xfrm>
            <a:off x="3657600" y="5735520"/>
            <a:ext cx="1828800" cy="447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5"/>
          <p:cNvSpPr/>
          <p:nvPr/>
        </p:nvSpPr>
        <p:spPr>
          <a:xfrm>
            <a:off x="4026600" y="5327280"/>
            <a:ext cx="109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resul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66"/>
          <p:cNvSpPr/>
          <p:nvPr/>
        </p:nvSpPr>
        <p:spPr>
          <a:xfrm>
            <a:off x="3381480" y="985680"/>
            <a:ext cx="2374920" cy="447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tive Is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69"/>
          <p:cNvSpPr/>
          <p:nvPr/>
        </p:nvSpPr>
        <p:spPr>
          <a:xfrm>
            <a:off x="3654360" y="1922400"/>
            <a:ext cx="1828800" cy="45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ing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77"/>
          <p:cNvGrpSpPr/>
          <p:nvPr/>
        </p:nvGrpSpPr>
        <p:grpSpPr>
          <a:xfrm>
            <a:off x="1390680" y="2824200"/>
            <a:ext cx="6357960" cy="463680"/>
            <a:chOff x="1390680" y="2824200"/>
            <a:chExt cx="6357960" cy="463680"/>
          </a:xfrm>
        </p:grpSpPr>
        <p:sp>
          <p:nvSpPr>
            <p:cNvPr id="275" name="Oval 167"/>
            <p:cNvSpPr/>
            <p:nvPr/>
          </p:nvSpPr>
          <p:spPr>
            <a:xfrm>
              <a:off x="1390680" y="28400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ehavioral iso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68"/>
            <p:cNvSpPr/>
            <p:nvPr/>
          </p:nvSpPr>
          <p:spPr>
            <a:xfrm>
              <a:off x="5919840" y="28400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mporal iso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70"/>
            <p:cNvSpPr/>
            <p:nvPr/>
          </p:nvSpPr>
          <p:spPr>
            <a:xfrm>
              <a:off x="3654360" y="2824200"/>
              <a:ext cx="1828800" cy="447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ographic iso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78"/>
          <p:cNvGrpSpPr/>
          <p:nvPr/>
        </p:nvGrpSpPr>
        <p:grpSpPr>
          <a:xfrm>
            <a:off x="1390680" y="3738600"/>
            <a:ext cx="6357960" cy="463680"/>
            <a:chOff x="1390680" y="3738600"/>
            <a:chExt cx="6357960" cy="463680"/>
          </a:xfrm>
        </p:grpSpPr>
        <p:sp>
          <p:nvSpPr>
            <p:cNvPr id="279" name="Oval 171"/>
            <p:cNvSpPr/>
            <p:nvPr/>
          </p:nvSpPr>
          <p:spPr>
            <a:xfrm>
              <a:off x="1390680" y="37544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ehavioral differe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72"/>
            <p:cNvSpPr/>
            <p:nvPr/>
          </p:nvSpPr>
          <p:spPr>
            <a:xfrm>
              <a:off x="5919840" y="37544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Different mating ti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73"/>
            <p:cNvSpPr/>
            <p:nvPr/>
          </p:nvSpPr>
          <p:spPr>
            <a:xfrm>
              <a:off x="3654360" y="3738600"/>
              <a:ext cx="1828800" cy="447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hysical sepa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Oval 174"/>
          <p:cNvSpPr/>
          <p:nvPr/>
        </p:nvSpPr>
        <p:spPr>
          <a:xfrm>
            <a:off x="3654360" y="4803840"/>
            <a:ext cx="1828800" cy="447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ing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75"/>
          <p:cNvSpPr/>
          <p:nvPr/>
        </p:nvSpPr>
        <p:spPr>
          <a:xfrm>
            <a:off x="3654360" y="5732640"/>
            <a:ext cx="1828800" cy="447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OBLEM #3. There are 100 students in a class. Ninety-six did well in the course whereas four blew it totally and received a grade of F. Sorry. In the highly unlikely event that these traits are genetic rather than environmental, if these traits involve dominant and recessive alleles, and if the four (4%) represent the frequency of the homozygous recessive condition, please calculate the following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requency of the recessive alle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requency of the dominant alle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requency of heterozygous individua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treeoflife"/>
          <p:cNvPicPr/>
          <p:nvPr/>
        </p:nvPicPr>
        <p:blipFill>
          <a:blip r:embed="rId1"/>
          <a:stretch/>
        </p:blipFill>
        <p:spPr>
          <a:xfrm>
            <a:off x="304920" y="30492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bphyla Vertebr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sh,   salamander ,  tortoise,     chick,                 hog,       calf,      rabbit,     hu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embryology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evol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al of the Fit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ell suited are you for your environment that you can SURVIVE (get food and not be eaten) AND pass on your G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based on ADAP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inherited characteristics that increases  an organism’s chances of survi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adaptations ari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– you canno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o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vol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utant is born!   A change in the DNA sequence changes a tra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a claw gets bigger and stro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ngs develop in place of g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gs develop from a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, advantages diverge so much from the original species that a new species evol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3276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ent with Mod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209320"/>
            <a:ext cx="34290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living species has descended, with changes, from other species over time … ultimately from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one common ancesto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4" descr="evolutiontree.gif"/>
          <p:cNvPicPr/>
          <p:nvPr/>
        </p:nvPicPr>
        <p:blipFill>
          <a:blip r:embed="rId1"/>
          <a:stretch/>
        </p:blipFill>
        <p:spPr>
          <a:xfrm>
            <a:off x="3886200" y="380880"/>
            <a:ext cx="49528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9:54:57Z</dcterms:created>
  <dc:creator>Joanne Lilliendahl</dc:creator>
  <dc:description/>
  <dc:language>en-US</dc:language>
  <cp:lastModifiedBy>Joanne Lilliendahl</cp:lastModifiedBy>
  <dcterms:modified xsi:type="dcterms:W3CDTF">2008-06-03T01:17:37Z</dcterms:modified>
  <cp:revision>47</cp:revision>
  <dc:subject/>
  <dc:title>WE ARE ALL MUTANTS</dc:title>
</cp:coreProperties>
</file>